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bserie06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3B2-8D33-4A51-B16E-8416079E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D0D-7668-4EDE-B827-592CFCD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A2E-4BE6-4308-9E10-3FDE6F49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309-EE55-4AA2-A9EC-9FB76B31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36D-720F-43F2-9124-8AB6767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879-C48F-4FCC-A762-955E5EE0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E11-D962-4104-B371-B2DE5125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364-5013-4BB0-A0C4-288A7E9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706-9C40-4E5C-9932-E4BF252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B2D-86FD-4563-90C6-4C6E1FB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2BF-D3B1-4EF9-A40F-0181176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D30-5F12-45A7-AC53-A611534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BCB-F9E6-4401-ACEE-F4008861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aralarmoff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aralarmoff.wav"/><Relationship Id="rId20" Type="http://schemas.openxmlformats.org/officeDocument/2006/relationships/audio" Target="../media/highchim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audio" Target="../media/highchime.wav"/><Relationship Id="rId20" Type="http://schemas.openxmlformats.org/officeDocument/2006/relationships/audio" Target="../media/highchime.wav"/><Relationship Id="rId21" Type="http://schemas.openxmlformats.org/officeDocument/2006/relationships/audio" Target="../media/highchime.wav"/><Relationship Id="rId22" Type="http://schemas.openxmlformats.org/officeDocument/2006/relationships/audio" Target="../media/highchime.wav"/><Relationship Id="rId23" Type="http://schemas.openxmlformats.org/officeDocument/2006/relationships/audio" Target="../media/caralarmoff.wav"/><Relationship Id="rId24" Type="http://schemas.openxmlformats.org/officeDocument/2006/relationships/audio" Target="../media/highchim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caralarmoff.wav"/><Relationship Id="rId25" Type="http://schemas.openxmlformats.org/officeDocument/2006/relationships/audio" Target="../media/highchime.wav"/><Relationship Id="rId26" Type="http://schemas.openxmlformats.org/officeDocument/2006/relationships/audio" Target="../media/highchime.wav"/><Relationship Id="rId27" Type="http://schemas.openxmlformats.org/officeDocument/2006/relationships/audio" Target="../media/highchime.wav"/><Relationship Id="rId28" Type="http://schemas.openxmlformats.org/officeDocument/2006/relationships/audio" Target="../media/highchime.wav"/><Relationship Id="rId29" Type="http://schemas.openxmlformats.org/officeDocument/2006/relationships/audio" Target="../media/caralarmoff.wav"/><Relationship Id="rId30" Type="http://schemas.openxmlformats.org/officeDocument/2006/relationships/audio" Target="../media/highchime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008000" y="1297080"/>
                <a:ext cx="1533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34120" y="204156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487600" y="204804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183280" y="2075040"/>
                <a:ext cx="6681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003320" y="2940120"/>
                <a:ext cx="1695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76520" y="367524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238800" y="3654360"/>
                <a:ext cx="878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97240" y="369108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91200" y="3701880"/>
                <a:ext cx="9604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28840" y="369108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421160" y="3701880"/>
                <a:ext cx="66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3. List the common factors of 15 and 4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73200" y="497052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152880" y="495000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05160" y="497052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4. What is the greatest common factor of 15 and 4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14800" y="610560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47880" y="129708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30800" y="1986120"/>
                <a:ext cx="878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58920" y="20336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84720" y="1998720"/>
                <a:ext cx="1001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22400" y="294012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76520" y="367524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238800" y="3654360"/>
                <a:ext cx="878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71880" y="3675240"/>
                <a:ext cx="709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07120" y="3687840"/>
                <a:ext cx="1001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87560" y="36752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48240" y="370188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7. List the common factors of 24 and 3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31800" y="4970520"/>
                <a:ext cx="709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19560" y="4950000"/>
                <a:ext cx="458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84280" y="497052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8. What is the greatest common factor of 24 and 32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81480" y="6105600"/>
                <a:ext cx="460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11600" y="2031840"/>
                <a:ext cx="62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56240" y="202716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004840"/>
                <a:ext cx="709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71960" y="202896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47880" y="129708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907320" y="2025720"/>
                <a:ext cx="877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58920" y="20336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977080" y="2043000"/>
                <a:ext cx="1001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80920" y="2940120"/>
                <a:ext cx="1938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0" y="36590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265960" y="3608280"/>
                <a:ext cx="8780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95360" y="3659040"/>
                <a:ext cx="709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313760" y="3627360"/>
                <a:ext cx="104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52440" y="3659040"/>
                <a:ext cx="625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27800" y="3641760"/>
                <a:ext cx="1044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1. List the common factors of 66 and 9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31800" y="4970520"/>
                <a:ext cx="709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24360" y="4950000"/>
                <a:ext cx="500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27320" y="497052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2. What is the greatest common factor of 66 and 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132000" y="6105600"/>
                <a:ext cx="501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1600" y="2031840"/>
                <a:ext cx="62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89600" y="2041560"/>
                <a:ext cx="1087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68520" y="2019240"/>
                <a:ext cx="66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145040" y="2028960"/>
                <a:ext cx="920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57240" y="3627360"/>
                <a:ext cx="666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541840" y="3641760"/>
                <a:ext cx="9622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96960" y="3629160"/>
                <a:ext cx="6670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72080" y="3645000"/>
                <a:ext cx="961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13000" y="367524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13120" y="3643200"/>
                <a:ext cx="1003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49, 6 – 2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. 5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5T14:03:39Z</dcterms:modified>
  <cp:revision>61</cp:revision>
  <dc:subject/>
  <dc:title>Slide 1</dc:title>
</cp:coreProperties>
</file>